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AFCE-CD8E-4B92-9597-62128D8A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4AE-6833-4048-96C5-5314C80C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F48-5C4C-414D-882F-934E2DAD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595-D2EB-4166-8C7B-2766E526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4CB66-6832-45BC-AA2A-9FDE8C55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0D4F3-2BCB-4A73-AF5C-AEFDAEED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C9657-FAF2-436D-B0E4-1A25A043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DFB3F-CFCC-4249-9911-32CF939F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A8209-88D1-4C19-B9AE-EF026E8E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510D9-0516-4287-8C7D-DB16E2C7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74C3D-9409-4C7A-92A0-1CA762E8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CEFF-97FF-4E40-80B1-0300F6F1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7BE15-8BC7-40A3-A357-AF2532D6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5EFF6-E913-4CF9-87D2-29753517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30EED-25C0-425F-8D26-CB7C9B82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0FDD8-2A61-4ED0-B597-300E97BD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2EA2E-36AA-434A-B9F5-A665CA9B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5B3-F82C-47B2-B06B-464DCDBB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86B6-DDDC-4DED-9D09-70254DF5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1BF3-DEB7-407B-A99B-13AA0807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066-791F-4FD0-ABD6-F7699FA8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9D9-83D6-40D4-8311-EB4FDE3D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F28B-ABE8-4CEA-BB77-B0A0E761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BD2-9439-4705-8AAF-05EF7208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CCCB-0C16-4009-B31A-DD5FB3A28357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99EB-5AB3-4D20-A068-69140918F902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15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Nội dung cần nắm đượ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- Các phương thức thuê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- Vận đơn (B/L - Bill of Lad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3- Trách nhiệm của người chuyên chở theo các công ước quốc tế và quy định của Việt 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- Các điều khoản trong VC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5- Khiếu nại người chuyên ch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3- ph©n lo¹i tµu bu«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 Theo c¸c ®Æc tr­ng kinh tÕ – kü thuËt cña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uæi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®éng c¬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Êu t¹o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Êp h¹ng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ê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t¶i tµu (ULCC, VLCC,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3- ph©n lo¹i tµu bu«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68360" y="2204640"/>
            <a:ext cx="8424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3. Theo ph­¬ng thøc kinh doanh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î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liner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¹y r«ng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tramp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: tµu chuyÕn, tµu ®Þnh h¹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4- ®éi tµu bu«n thÕ giíi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280" y="2636640"/>
            <a:ext cx="79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Sù ph¸t triÓn cña ®éi tµu bu«n thÕ gií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Xu h­íng tiÕn bé kü thuËt cña ®éi tµu bu«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5- ®éi tµu biÓn cña ViÖt Nam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555640" y="2707920"/>
            <a:ext cx="504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æng träng t¶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¬ cÊu ®éi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1. ®Þnh nghÜ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Lµ n¬i ra vµo neo ®Ëu ®Ó xÕp dì hµng hãa cña tµu biÓ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 chøc n</a:t>
            </a:r>
            <a:r>
              <a:rPr b="1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ng: phôc vô tµu vµ hµ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2. trang thiÕt b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ña c¶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3. c¸c chØ tiªu ho¹t ®éng cña c¶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Sè l­îng tµu ra vµ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Sè l­îng tµu cã thÓ lµm hµng trong cïng mét kháang thêi g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Khèi l­îng hµng hãa xÕp dì trong </a:t>
            </a:r>
            <a:r>
              <a:rPr b="1" lang="fr-BE" sz="3200" spc="-1" strike="noStrike">
                <a:solidFill>
                  <a:srgbClr val="000066"/>
                </a:solidFill>
                <a:latin typeface="Times New Roman"/>
              </a:rPr>
              <a:t>nă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4. P</a:t>
            </a:r>
            <a:r>
              <a:rPr b="1" lang="fr-BE" sz="3200" spc="-1" strike="noStrike">
                <a:solidFill>
                  <a:srgbClr val="000066"/>
                </a:solidFill>
                <a:latin typeface="Times New Roman"/>
              </a:rPr>
              <a:t>hân loại cả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5. c¶ng biÓn ViÖt 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9344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280" y="1268280"/>
            <a:ext cx="8425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I- Ưu nhược điểm của VT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- Ưu điểm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đầu tư cơ sở hạ tầng thấ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năng lực chuyên chở lớ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giá thành VTB thấ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2- Nhược điể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ốc độ thấp: 14 </a:t>
            </a:r>
            <a:r>
              <a:rPr b="1" lang="vi-V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 20 hải lý/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Nhiều rủi 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9344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II- Cơ sở vật chất kỹ thuật của VT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Tàu buôn (</a:t>
            </a:r>
            <a:r>
              <a:rPr b="1" i="1" lang="fr-BE" sz="3200" spc="-1" strike="noStrike">
                <a:solidFill>
                  <a:srgbClr val="ffffff"/>
                </a:solidFill>
                <a:latin typeface="Tahoma"/>
              </a:rPr>
              <a:t>merchant ship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Cảng biển (</a:t>
            </a:r>
            <a:r>
              <a:rPr b="1" i="1" lang="fr-BE" sz="3200" spc="-1" strike="noStrike">
                <a:solidFill>
                  <a:srgbClr val="ffffff"/>
                </a:solidFill>
                <a:latin typeface="Tahoma"/>
              </a:rPr>
              <a:t>por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1- Tàu buô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1.1- khái niệ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Viện KTếHHải: là tàu chở hàng hóa hoặc hành khách vỡ mục đích thương mạ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.2- đặc trư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.2- đặc trưng kinh tế kỹ thuật của tàu biể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1269720"/>
            <a:ext cx="878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Tên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Chủ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Cảng đăng ký của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ớn nước của tàu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draugh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ớn nước khi tàu không hà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ớn nước khi tàu có hà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Vạch xếp hàng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Load line) – vạch Plimso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Đéng c¬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l­îng cña tµu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displacement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100 CB = 2,83 m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D = M/3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l­îng nhÑ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LD – light displacement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l­îng nÆng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HD – heavy displacement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HD = LD + träng l­îng hµng hãa vµ vËt phÈm cung ø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-Träng t¶i cña tµu (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carrying capacity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Träng t¶i tßan phÇn (DWC) = HD – 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Träng t¶i tÞnh (DWCC) = DWC – träng l­îng vËt phÈm cung ø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Dung tÝch ®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ng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 ký cña tµu (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register tonnage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Dung tÝch ®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g ký toµn phÇn (GRT - 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Gros Register Tonage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Dung tÝch ®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g ký tÞnh (NRT - 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Net Register Tonage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RT = GRT – dung tÝch c¸c phßng 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 ë, gi¶i trÝ, buång m¸y hoa tiª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-Dung tÝch chøa hµng cña tµu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cargo space – CS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S hµng bao kiÖ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S hµng rê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HÖ sè xÕp hµng cña tµu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coefficient loading – CL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L = CS / DWC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HÖ sè xÕp hµng cña hµng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stowage factor - SF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ff3300"/>
                </a:solidFill>
                <a:latin typeface=".VnTime"/>
              </a:rPr>
              <a:t>Lµm thÕ nµo ®Ó xÕp hµng tèi ­u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CL = SF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1" lang="fr-BE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 Sg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KÝch th­íc cña tµu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hiÒu dµi: chiÒu dµi toµn bé vµ chiÒu dµi theo mín n­íc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hiÒu réng cña tµu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p h¹ng cña tµu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class of ship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tµu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flag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: cê cña n­íc mµ tµu mang quèc tÞc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th­êng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conventional flag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ph­¬ng tiÖn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flag of convinience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ph­¬ng tiÖn phæ biÕn trong TMQT v</a:t>
            </a:r>
            <a:r>
              <a:rPr b="1" lang="fr-BE" sz="3000" spc="-1" strike="noStrike">
                <a:solidFill>
                  <a:srgbClr val="000066"/>
                </a:solidFill>
                <a:latin typeface="Times New Roman"/>
              </a:rPr>
              <a:t>ì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 2 lý do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+ chÝnh tr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+ kinh tÕ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3- ph©n lo¹i tµu bu«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640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1. Theo c«ng dô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ë hµng kh«: tµu chë hµng b¸ch ho¸, tµu container, tµu LASH, tµu RO-RO, tµu LO-LO, tµu chë hµng ®«ng l¹nh, tµu kÕt hîp,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ë hµng láng: tµu dÇu, tµu chë nhiªn liÖu hãa láng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nh Huong</cp:lastModifiedBy>
  <dcterms:modified xsi:type="dcterms:W3CDTF">2010-12-18T21:53:27Z</dcterms:modified>
  <cp:revision>50</cp:revision>
  <dc:subject/>
  <dc:title>PowerPoint Presentation</dc:title>
</cp:coreProperties>
</file>